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8.jpeg" ContentType="image/jpeg"/>
  <Override PartName="/ppt/media/image1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1.wmf" ContentType="image/x-wmf"/>
  <Override PartName="/ppt/media/image9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05200" y="-36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898560" y="740880"/>
            <a:ext cx="4922640" cy="369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1400" y="46778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35964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05200" y="935964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8B18-C476-4CA5-BBD6-0D552F730DCE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1400" y="46778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05200" y="93600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8780-E847-41FB-B6B8-935D627D398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1400" y="46778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LT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05200" y="93600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FD7C-DB71-4836-906A-8D8160DA6AE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1400" y="46778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LT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05200" y="93600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314A-F59B-4DCF-B710-C1F34C486E2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1400" y="46778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05200" y="93600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01FD-DB33-434A-B81D-668E45CAECC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21C5-79C5-4CE4-916E-C4DA90291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42D1-CE5B-4375-9C4D-CA915E24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8F2C-9E79-417F-86F3-C45258487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F2C6-AF00-4C79-8E90-A3B44D54C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BFE8-ABE6-4749-82B7-4C0DF27FB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2420-07B7-4D38-AB45-737B99C3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7DD1-7C70-4270-9575-151C815E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3426-4284-4117-A1AB-4CD17258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04AA-E94E-42BF-94AA-A7AE503F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004D-595D-482D-9C25-185140C6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B6C2-4CC1-444C-BA5D-106621D3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A572-ED44-4904-9A32-3A53A260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CA74-EC4E-43EC-8712-E9751B80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3D36-B9F0-4DBA-8B53-03B4D742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C287-6346-43A2-A1E0-A8FB976F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2FFB-A24E-4F08-905E-CA7D287D4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9B70-43A6-40DE-A3AE-5BE1ABB55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9F2C-76A2-4121-90F0-25121903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5752-8B7C-4C0F-A048-1E590C2A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FFDD-E4CB-4D72-BE5F-0BFB19E7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C639-937F-4429-A266-6789946F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32F9-5946-4D4B-8E30-ECF693C0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0C6F-17A9-476F-822C-296B5EFE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334D-1F0D-481C-B688-8312903D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EF11-4D47-46DD-9762-0C9823245F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icture 17"/>
          <p:cNvSpPr/>
          <p:nvPr/>
        </p:nvSpPr>
        <p:spPr>
          <a:xfrm>
            <a:off x="3957480" y="258840"/>
            <a:ext cx="1436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C579-29BE-4402-9712-A7A30C99FEC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"/>
          <p:cNvPicPr/>
          <p:nvPr/>
        </p:nvPicPr>
        <p:blipFill>
          <a:blip r:embed="rId1"/>
          <a:srcRect l="0" t="27643" r="0" b="0"/>
          <a:stretch/>
        </p:blipFill>
        <p:spPr>
          <a:xfrm>
            <a:off x="5659560" y="3241800"/>
            <a:ext cx="895320" cy="990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3351240" y="3009960"/>
            <a:ext cx="1438200" cy="9205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920" y="668160"/>
            <a:ext cx="9144000" cy="28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BE" sz="2800" spc="-1" strike="noStrike">
                <a:solidFill>
                  <a:srgbClr val="ffd624"/>
                </a:solidFill>
                <a:latin typeface="Arial"/>
                <a:ea typeface="Arial"/>
              </a:rPr>
              <a:t>2019 DEVCO Infrastructure Seminar</a:t>
            </a:r>
            <a:br>
              <a:rPr sz="2800"/>
            </a:br>
            <a:r>
              <a:rPr b="1" lang="fr-BE" sz="2800" spc="-1" strike="noStrike">
                <a:solidFill>
                  <a:srgbClr val="ffd624"/>
                </a:solidFill>
                <a:latin typeface="Arial"/>
                <a:ea typeface="Arial"/>
              </a:rPr>
              <a:t>02 – 06 December 2019, Brussels, Belgium</a:t>
            </a:r>
            <a:br>
              <a:rPr sz="28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8" name="Picture 169" descr="avionsurvol"/>
          <p:cNvPicPr/>
          <p:nvPr/>
        </p:nvPicPr>
        <p:blipFill>
          <a:blip r:embed="rId3"/>
          <a:srcRect l="9843" t="14763" r="9843" b="14763"/>
          <a:stretch/>
        </p:blipFill>
        <p:spPr>
          <a:xfrm>
            <a:off x="5407200" y="4311720"/>
            <a:ext cx="1439640" cy="12412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6"/>
          <p:cNvSpPr/>
          <p:nvPr/>
        </p:nvSpPr>
        <p:spPr>
          <a:xfrm>
            <a:off x="4103640" y="6630840"/>
            <a:ext cx="936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600" spc="-1" strike="noStrike">
                <a:solidFill>
                  <a:srgbClr val="ffff00"/>
                </a:solidFill>
                <a:latin typeface="Arial"/>
                <a:ea typeface="Arial"/>
              </a:rPr>
              <a:t>DEVCO C/5 </a:t>
            </a:r>
            <a:br>
              <a:rPr sz="600"/>
            </a:br>
            <a:endParaRPr b="0" lang="en-US" sz="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619200" y="4773600"/>
            <a:ext cx="853128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Arial"/>
                <a:ea typeface="Arial"/>
              </a:rPr>
              <a:t>Brussels, 02 Dec 2019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1" name="Picture 13" descr=""/>
          <p:cNvPicPr/>
          <p:nvPr/>
        </p:nvPicPr>
        <p:blipFill>
          <a:blip r:embed="rId4"/>
          <a:stretch/>
        </p:blipFill>
        <p:spPr>
          <a:xfrm>
            <a:off x="3960720" y="3738600"/>
            <a:ext cx="1930320" cy="1268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"/>
          <p:cNvPicPr/>
          <p:nvPr/>
        </p:nvPicPr>
        <p:blipFill>
          <a:blip r:embed="rId5"/>
          <a:stretch/>
        </p:blipFill>
        <p:spPr>
          <a:xfrm>
            <a:off x="2255760" y="3857760"/>
            <a:ext cx="1724040" cy="1147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"/>
          <p:cNvPicPr/>
          <p:nvPr/>
        </p:nvPicPr>
        <p:blipFill>
          <a:blip r:embed="rId6"/>
          <a:stretch/>
        </p:blipFill>
        <p:spPr>
          <a:xfrm>
            <a:off x="2065320" y="4773600"/>
            <a:ext cx="1671480" cy="1111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"/>
          <p:cNvPicPr/>
          <p:nvPr/>
        </p:nvPicPr>
        <p:blipFill>
          <a:blip r:embed="rId7"/>
          <a:stretch/>
        </p:blipFill>
        <p:spPr>
          <a:xfrm>
            <a:off x="4297320" y="5006880"/>
            <a:ext cx="1316160" cy="876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"/>
          <p:cNvPicPr/>
          <p:nvPr/>
        </p:nvPicPr>
        <p:blipFill>
          <a:blip r:embed="rId8"/>
          <a:stretch/>
        </p:blipFill>
        <p:spPr>
          <a:xfrm>
            <a:off x="3328920" y="4745160"/>
            <a:ext cx="1436760" cy="96048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"/>
          <p:cNvGrpSpPr/>
          <p:nvPr/>
        </p:nvGrpSpPr>
        <p:grpSpPr>
          <a:xfrm>
            <a:off x="3575160" y="6010200"/>
            <a:ext cx="1832040" cy="430200"/>
            <a:chOff x="3575160" y="6010200"/>
            <a:chExt cx="1832040" cy="430200"/>
          </a:xfrm>
        </p:grpSpPr>
        <p:pic>
          <p:nvPicPr>
            <p:cNvPr id="107" name="Picture 13" descr=""/>
            <p:cNvPicPr/>
            <p:nvPr/>
          </p:nvPicPr>
          <p:blipFill>
            <a:blip r:embed="rId9"/>
            <a:stretch/>
          </p:blipFill>
          <p:spPr>
            <a:xfrm>
              <a:off x="4526280" y="6010200"/>
              <a:ext cx="41580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30" descr=""/>
            <p:cNvPicPr/>
            <p:nvPr/>
          </p:nvPicPr>
          <p:blipFill>
            <a:blip r:embed="rId10"/>
            <a:stretch/>
          </p:blipFill>
          <p:spPr>
            <a:xfrm>
              <a:off x="4999320" y="6010200"/>
              <a:ext cx="407880" cy="41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29" descr=""/>
            <p:cNvPicPr/>
            <p:nvPr/>
          </p:nvPicPr>
          <p:blipFill>
            <a:blip r:embed="rId11"/>
            <a:stretch/>
          </p:blipFill>
          <p:spPr>
            <a:xfrm>
              <a:off x="3575160" y="6010200"/>
              <a:ext cx="39348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31" descr=""/>
            <p:cNvPicPr/>
            <p:nvPr/>
          </p:nvPicPr>
          <p:blipFill>
            <a:blip r:embed="rId12"/>
            <a:stretch/>
          </p:blipFill>
          <p:spPr>
            <a:xfrm>
              <a:off x="4040280" y="6010200"/>
              <a:ext cx="407880" cy="43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4103640" y="6630840"/>
            <a:ext cx="936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600" spc="-1" strike="noStrike">
                <a:solidFill>
                  <a:srgbClr val="ffff00"/>
                </a:solidFill>
                <a:latin typeface="Arial"/>
                <a:ea typeface="Arial"/>
              </a:rPr>
              <a:t>DEVCO C/6 </a:t>
            </a:r>
            <a:br>
              <a:rPr sz="600"/>
            </a:br>
            <a:endParaRPr b="0" lang="en-US" sz="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3708360" y="0"/>
            <a:ext cx="484812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593640" y="1341360"/>
            <a:ext cx="2051280" cy="1055880"/>
          </a:xfrm>
          <a:prstGeom prst="rect">
            <a:avLst/>
          </a:prstGeom>
          <a:ln w="0">
            <a:noFill/>
          </a:ln>
        </p:spPr>
      </p:pic>
      <p:grpSp>
        <p:nvGrpSpPr>
          <p:cNvPr id="114" name="TextBox 3"/>
          <p:cNvGrpSpPr/>
          <p:nvPr/>
        </p:nvGrpSpPr>
        <p:grpSpPr>
          <a:xfrm>
            <a:off x="189000" y="2548080"/>
            <a:ext cx="2859120" cy="2773080"/>
            <a:chOff x="189000" y="2548080"/>
            <a:chExt cx="2859120" cy="2773080"/>
          </a:xfrm>
        </p:grpSpPr>
        <p:pic>
          <p:nvPicPr>
            <p:cNvPr id="115" name="TextBox 3" descr=""/>
            <p:cNvPicPr/>
            <p:nvPr/>
          </p:nvPicPr>
          <p:blipFill>
            <a:blip r:embed="rId3"/>
            <a:stretch/>
          </p:blipFill>
          <p:spPr>
            <a:xfrm>
              <a:off x="189000" y="2548080"/>
              <a:ext cx="2859120" cy="27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422280" y="2781360"/>
              <a:ext cx="239400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f5494"/>
                  </a:solidFill>
                  <a:latin typeface="Verdana"/>
                </a:rPr>
                <a:t>Priorities of the New European Commission… </a:t>
              </a:r>
              <a:endParaRPr b="0" lang="en-US" sz="18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5494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BE" sz="1800" spc="-1" strike="noStrike">
                  <a:solidFill>
                    <a:srgbClr val="ff9933"/>
                  </a:solidFill>
                  <a:latin typeface="Verdana"/>
                </a:rPr>
                <a:t>…</a:t>
              </a:r>
              <a:r>
                <a:rPr b="1" i="1" lang="fr-BE" sz="1800" spc="-1" strike="noStrike">
                  <a:solidFill>
                    <a:srgbClr val="ff9933"/>
                  </a:solidFill>
                  <a:latin typeface="Verdana"/>
                </a:rPr>
                <a:t>and their translation into the external context</a:t>
              </a:r>
              <a:endParaRPr b="0" lang="en-US" sz="18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117" name="Right Arrow 4"/>
          <p:cNvSpPr/>
          <p:nvPr/>
        </p:nvSpPr>
        <p:spPr>
          <a:xfrm>
            <a:off x="3009960" y="3754440"/>
            <a:ext cx="869760" cy="53820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125280" y="147600"/>
            <a:ext cx="5040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9933"/>
                </a:solidFill>
                <a:latin typeface="Verdana"/>
                <a:ea typeface="Arial"/>
              </a:rPr>
              <a:t>The 2019 Infrastructure Seminar within the New European Commission Context 2019-2024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9" name="Picture 1" descr=""/>
          <p:cNvPicPr/>
          <p:nvPr/>
        </p:nvPicPr>
        <p:blipFill>
          <a:blip r:embed="rId4"/>
          <a:stretch/>
        </p:blipFill>
        <p:spPr>
          <a:xfrm>
            <a:off x="7816680" y="825480"/>
            <a:ext cx="73980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4103640" y="6630840"/>
            <a:ext cx="936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600" spc="-1" strike="noStrike">
                <a:solidFill>
                  <a:srgbClr val="ffff00"/>
                </a:solidFill>
                <a:latin typeface="Arial"/>
                <a:ea typeface="Arial"/>
              </a:rPr>
              <a:t>DEVCO C/5</a:t>
            </a:r>
            <a:endParaRPr b="0" lang="en-US" sz="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24000" y="5580000"/>
            <a:ext cx="72723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TextBox 23"/>
          <p:cNvSpPr/>
          <p:nvPr/>
        </p:nvSpPr>
        <p:spPr>
          <a:xfrm>
            <a:off x="1476360" y="5818320"/>
            <a:ext cx="651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00"/>
                </a:solidFill>
                <a:latin typeface="Verdana"/>
                <a:ea typeface="Arial"/>
              </a:rPr>
              <a:t> </a:t>
            </a:r>
            <a:r>
              <a:rPr b="1" lang="fr-BE" sz="1600" spc="-1" strike="noStrike">
                <a:solidFill>
                  <a:srgbClr val="ffff00"/>
                </a:solidFill>
                <a:latin typeface="Verdana"/>
                <a:ea typeface="Arial"/>
              </a:rPr>
              <a:t>Time for Transformation: We need to do it differently, we need to do it smart, we need to put the right focus…. 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TextBox 24"/>
          <p:cNvSpPr/>
          <p:nvPr/>
        </p:nvSpPr>
        <p:spPr>
          <a:xfrm>
            <a:off x="0" y="152280"/>
            <a:ext cx="3924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9933"/>
                </a:solidFill>
                <a:latin typeface="Verdana"/>
                <a:ea typeface="Arial"/>
              </a:rPr>
              <a:t>International Partnership: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ff9933"/>
                </a:solidFill>
                <a:latin typeface="Verdana"/>
                <a:ea typeface="Arial"/>
              </a:rPr>
              <a:t>… </a:t>
            </a:r>
            <a:r>
              <a:rPr b="1" lang="fr-BE" sz="1400" spc="-1" strike="noStrike">
                <a:solidFill>
                  <a:srgbClr val="ff9933"/>
                </a:solidFill>
                <a:latin typeface="Verdana"/>
                <a:ea typeface="Arial"/>
              </a:rPr>
              <a:t>through the lenses of Infrastructure …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124" name="Group 7"/>
          <p:cNvGrpSpPr/>
          <p:nvPr/>
        </p:nvGrpSpPr>
        <p:grpSpPr>
          <a:xfrm>
            <a:off x="1150920" y="1432080"/>
            <a:ext cx="6842160" cy="4233600"/>
            <a:chOff x="1150920" y="1432080"/>
            <a:chExt cx="6842160" cy="4233600"/>
          </a:xfrm>
        </p:grpSpPr>
        <p:sp>
          <p:nvSpPr>
            <p:cNvPr id="125" name="Oval 5"/>
            <p:cNvSpPr/>
            <p:nvPr/>
          </p:nvSpPr>
          <p:spPr>
            <a:xfrm>
              <a:off x="1150920" y="2390400"/>
              <a:ext cx="6842160" cy="32752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pic>
          <p:nvPicPr>
            <p:cNvPr id="126" name="Picture 1" descr=""/>
            <p:cNvPicPr/>
            <p:nvPr/>
          </p:nvPicPr>
          <p:blipFill>
            <a:blip r:embed="rId1"/>
            <a:stretch/>
          </p:blipFill>
          <p:spPr>
            <a:xfrm>
              <a:off x="1589040" y="1455480"/>
              <a:ext cx="1580400" cy="302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2" descr=""/>
            <p:cNvPicPr/>
            <p:nvPr/>
          </p:nvPicPr>
          <p:blipFill>
            <a:blip r:embed="rId2"/>
            <a:stretch/>
          </p:blipFill>
          <p:spPr>
            <a:xfrm>
              <a:off x="3809880" y="1432080"/>
              <a:ext cx="1557720" cy="302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3" descr=""/>
            <p:cNvPicPr/>
            <p:nvPr/>
          </p:nvPicPr>
          <p:blipFill>
            <a:blip r:embed="rId3"/>
            <a:stretch/>
          </p:blipFill>
          <p:spPr>
            <a:xfrm>
              <a:off x="6030720" y="1458360"/>
              <a:ext cx="1562400" cy="301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Box 6"/>
            <p:cNvSpPr/>
            <p:nvPr/>
          </p:nvSpPr>
          <p:spPr>
            <a:xfrm>
              <a:off x="1846440" y="4496400"/>
              <a:ext cx="5747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Sustainable Quality Infrastructure Delivery and Investments</a:t>
              </a:r>
              <a:endParaRPr b="0" lang="en-US" sz="16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>
              <a:off x="5715360" y="2266560"/>
              <a:ext cx="2104200" cy="695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1" name="Oval 12"/>
            <p:cNvSpPr/>
            <p:nvPr/>
          </p:nvSpPr>
          <p:spPr>
            <a:xfrm>
              <a:off x="3577320" y="2266560"/>
              <a:ext cx="2007720" cy="12344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2" name="Oval 12"/>
            <p:cNvSpPr/>
            <p:nvPr/>
          </p:nvSpPr>
          <p:spPr>
            <a:xfrm>
              <a:off x="1360800" y="2836080"/>
              <a:ext cx="1913040" cy="4449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3" name="Oval 12"/>
            <p:cNvSpPr/>
            <p:nvPr/>
          </p:nvSpPr>
          <p:spPr>
            <a:xfrm>
              <a:off x="5691240" y="3262320"/>
              <a:ext cx="2007720" cy="1051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4" name="Oval 12"/>
            <p:cNvSpPr/>
            <p:nvPr/>
          </p:nvSpPr>
          <p:spPr>
            <a:xfrm>
              <a:off x="1326960" y="2348280"/>
              <a:ext cx="1913040" cy="2473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135" name="Down Arrow 8"/>
          <p:cNvSpPr/>
          <p:nvPr/>
        </p:nvSpPr>
        <p:spPr>
          <a:xfrm>
            <a:off x="4433760" y="5288040"/>
            <a:ext cx="631800" cy="501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Oval 12"/>
          <p:cNvSpPr/>
          <p:nvPr/>
        </p:nvSpPr>
        <p:spPr>
          <a:xfrm>
            <a:off x="1397160" y="3714840"/>
            <a:ext cx="1912680" cy="312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000" y="3429000"/>
            <a:ext cx="77770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d624"/>
                </a:solidFill>
                <a:latin typeface="Verdana"/>
              </a:rPr>
              <a:t>Thank you for your attention!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08:42:10Z</dcterms:created>
  <dc:creator>WALLEF Lionel (DEVCO)</dc:creator>
  <dc:description/>
  <cp:keywords>PEFA Workshop-Brussels</cp:keywords>
  <dc:language>en-US</dc:language>
  <cp:lastModifiedBy>KETTNER Juergen (DEVCO)</cp:lastModifiedBy>
  <cp:lastPrinted>2016-02-17T17:25:58Z</cp:lastPrinted>
  <dcterms:modified xsi:type="dcterms:W3CDTF">2019-11-29T11:52:34Z</dcterms:modified>
  <cp:revision>411</cp:revision>
  <dc:subject/>
  <dc:title>ESA-IO High Level Forum  11tRegional programming</dc:title>
</cp:coreProperties>
</file>